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C3F2-82CE-4D79-BA33-0CF326FD2E8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2925-F60F-485C-98E7-57DB2C8AB03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A5AC-DEE2-4AF9-A214-158CA6A474F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1A72-9F1E-4E27-8067-21C51925544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4BDB-4E04-4DED-8A0D-7C64508D91F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2971-E3D7-4D81-A53A-CE71A873EF2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B517-9326-4DC2-9A52-7B767FCB2BA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41B5-4116-4AC9-A081-3F10598B25E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재는 장소 옮겨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6FE9-2FB5-4B13-9CB1-490708A1684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08A2-D189-4EEE-8437-363FE61CCBA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5BF7-6C32-4FE1-98BB-36F69C71B62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E13C-963E-4F30-A9ED-873B1CB114D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8B48-1791-4055-A0F4-F5FF1E2E023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4A7F-E10E-4D3E-9FA1-78DD9D65B15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4AD3-3EDD-4047-B39D-1B109BA332B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A2F9-3740-4B6C-B8B6-B06EA1B4F78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A4EC-B08B-4989-B786-52EAF67AD4C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A611-F376-473C-96DC-FDB81251002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D389-8B7C-49AA-A763-8ADF4D7D844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2265-05C1-478D-910D-F6C05855CC6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348C-5CA1-4EAD-A69E-D46C5197F99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56D2-823B-497E-A3FA-21E0AB17955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C03E-4465-464B-AD56-E2C100CD236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319B-1914-4BF6-880D-6994014723C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0ED8-A9DB-40C6-BB8B-7848C5AEA77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궁정의 후원은 후원자 개인에 의해 좌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85E8-299F-4542-9697-0747ACB5DE8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0377-F108-4DA1-8947-AB77F707ECD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FCCE-CA5F-4E65-9963-24C9CDD2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84C7-34CF-4291-9C5F-44D22B92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C97-BDBC-418F-B69D-17D85959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D48-7507-4E90-873A-28FD0A42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F1B2-2D4C-4AF8-A635-333E24C5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800C-96B3-41FE-BF0D-07B505C3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132F-F42B-45EF-893F-99DB4BD9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C86C-2A03-4963-B334-97DDEF53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3CF-0B7D-4F13-996F-DFAA70F8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9EA2-872B-4546-BCDE-3CFFA975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42B7-5485-487E-9C36-FD67B23F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CCE0-1B96-4303-A879-62F9209A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FDEB-7B58-4C9F-94DF-BBEE7EBCCA80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과학의 제도적 기반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단명한 초기 학회들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로마의 린체이 아카데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601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피렌체의 치멘토 아카데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657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프랑스의 메르센느 그룹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파일:왕립학회의 역사.jpg"/>
          <p:cNvPicPr/>
          <p:nvPr/>
        </p:nvPicPr>
        <p:blipFill>
          <a:blip r:embed="rId1"/>
          <a:srcRect l="23464" t="2523" r="4848" b="6761"/>
          <a:stretch/>
        </p:blipFill>
        <p:spPr>
          <a:xfrm>
            <a:off x="468360" y="158760"/>
            <a:ext cx="4971960" cy="6510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580000" y="5516280"/>
            <a:ext cx="3564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런던왕립학회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660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베이컨주의적 이상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험과 귀납을 통한 협동적 연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유용하고 실제적인 지식 생산 주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정부의 재정지원 無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학회 운영비는 회원들의 회비에 의존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험을 위한 경비와 설비는 개인적으로 마련해야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을 취미로 여기는 상류층 신사들의 모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학회의 주된 기능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개인적 연구활동의 수집 및 전달 기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ww.bbk.ac.uk/boyle/researchers/intro_images/incalescence.jpg"/>
          <p:cNvPicPr/>
          <p:nvPr/>
        </p:nvPicPr>
        <p:blipFill>
          <a:blip r:embed="rId1"/>
          <a:stretch/>
        </p:blipFill>
        <p:spPr>
          <a:xfrm>
            <a:off x="468360" y="404640"/>
            <a:ext cx="8292960" cy="5616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2160" y="6092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왕립학회의 공식학술지가 된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『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철학회보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』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올덴버그 편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ile:RoyalObservatoryShepherd1824 edited.jpg"/>
          <p:cNvPicPr/>
          <p:nvPr/>
        </p:nvPicPr>
        <p:blipFill>
          <a:blip r:embed="rId1"/>
          <a:stretch/>
        </p:blipFill>
        <p:spPr>
          <a:xfrm>
            <a:off x="-396720" y="333360"/>
            <a:ext cx="9972360" cy="5961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2160" y="5373360"/>
            <a:ext cx="777240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왕립 그리니치 천문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플렘스티드 하우스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1676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03280" y="4797360"/>
            <a:ext cx="4140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파리 왕립과학아카데미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666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89" name="Picture 2" descr="파일:왕립 과학아카데미를 방문 중인 루이 14세.jpg"/>
          <p:cNvPicPr/>
          <p:nvPr/>
        </p:nvPicPr>
        <p:blipFill>
          <a:blip r:embed="rId1"/>
          <a:stretch/>
        </p:blipFill>
        <p:spPr>
          <a:xfrm>
            <a:off x="179280" y="133200"/>
            <a:ext cx="478008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풍족한 정부의 지원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일부 과학자에게 보수 지급 및 관료로서의 업무 할당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왕립도서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왕립천문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왕립식물원 등의 시설 제공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대규모 연구 프로젝트 발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e.g.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지구의 크기 측정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전문 과학자의 양성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8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기까지 전문과학자 양성 교육과정 없었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대학은 여전히 아리스토텔레스 중심의 고전 교육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8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기 분류학자 린네는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웁살라 대학 의학부 소속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학자가 되는 길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학자로 사는 길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오늘날에는 정형화된 코스 있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직업으로서의 과학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거에는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8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세기 기술 교육 기관 설립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독일 광산학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프랑스 토목학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포병학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쿨롱은 토목학교 출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라플라스는 포병학교의 교수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나폴레옹은 라플라스로부터 교육 받은 포병 장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dcso.polytechnique.fr/z-outils/images/site/logoX.gif"/>
          <p:cNvPicPr/>
          <p:nvPr/>
        </p:nvPicPr>
        <p:blipFill>
          <a:blip r:embed="rId1"/>
          <a:stretch/>
        </p:blipFill>
        <p:spPr>
          <a:xfrm>
            <a:off x="755640" y="1268280"/>
            <a:ext cx="6480360" cy="47307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219280" y="1557360"/>
            <a:ext cx="32749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프랑스 혁명정부에 의한 설립된 최초의 전문 공학 교육 기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794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라플라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라그랑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몽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포아송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프레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카르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게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뤼삭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프랑스 과학자의 역할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도량형 개혁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중보건 개혁 등 정부 업무에 활용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운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다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철도 전설 등의 정부 사업 계획 및 감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자를 양성하는 학교의 교수로 재고용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 연구는 업무 외 자투리 시간에 하는 개인적인 일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독일 연구 대학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대학 교수는 교육자인 동시에 연구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대학원생을 연구자로 양성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ph.D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제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 교육과 연구에 대한 정부의 전폭적인 지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단기적인 이익보다 진리탐구라는 이상 추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영국과 미국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대학의 수학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 교육은 여전히 교양용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9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기 후반까지도 정부의 과학 지원 꺼림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자유방임적인 국가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현재는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거의 모든 나라에서 정부의 과학</a:t>
            </a:r>
            <a:r>
              <a:rPr b="0" lang="en-US" sz="22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지원 당연시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원자의 구조나 시공간의 본질을 탐구하는 것처럼 전혀 실용적으로 보이지 않는 연구조차도 핵폭탄의 이론적 토대 제공</a:t>
            </a:r>
            <a:r>
              <a:rPr b="0" lang="en-US" sz="2200" spc="-1" strike="noStrike">
                <a:solidFill>
                  <a:srgbClr val="ffc000"/>
                </a:solidFill>
                <a:latin typeface="Georgia"/>
              </a:rPr>
              <a:t>”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지극히 순수한 연구도 언젠가는 매우 실용적인 성과 줄 수 있음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그러나 언제</a:t>
            </a:r>
            <a:r>
              <a:rPr b="0" lang="en-US" sz="22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읽을거리와 질문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케블레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「미국의 거대과학과 거대정치」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SC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건설을 옹호하는 근거는 무엇이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SC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건설을 반대하는 근거는 무엇이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휴먼게놈프로젝트의 옹호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반대 근거는 무엇이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SC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프로젝트는 좌초하고 휴먼게놈프로젝트는 살아남은 이유는 무엇일까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과학비지니스벨트에 대해서도 찬반 의견이 있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 (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부지 선정 문제가 아님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학혁명기의 과학자들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4652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들은 생활비를 어디서 얻었을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54" name="Picture 2" descr="http://c.ask.nate.com/imgs/qrsi.php/8860082/11821248/0/1/A/%EC%A7%80%ED%8F%90%EB%A7%8C%EC%9B%90%20%EB%89%B4%EC%8B%9C%EC%8A%A4.jpg"/>
          <p:cNvPicPr/>
          <p:nvPr/>
        </p:nvPicPr>
        <p:blipFill>
          <a:blip r:embed="rId1"/>
          <a:stretch/>
        </p:blipFill>
        <p:spPr>
          <a:xfrm>
            <a:off x="2195640" y="563400"/>
            <a:ext cx="4762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대학의 교수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강의에 대한 보수 제공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연구 공간 제공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의학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학 분야에 한정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리스토텔레스주의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0720" y="2420640"/>
            <a:ext cx="464328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갈릴레오 갈릴레이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00720" y="3933720"/>
            <a:ext cx="46432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대학의 수학 교수에서 메디치 궁정의 철학자 겸 수학자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어떻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리고 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59" name="Picture 6" descr="Galileo"/>
          <p:cNvPicPr/>
          <p:nvPr/>
        </p:nvPicPr>
        <p:blipFill>
          <a:blip r:embed="rId1"/>
          <a:stretch/>
        </p:blipFill>
        <p:spPr>
          <a:xfrm>
            <a:off x="395280" y="1341360"/>
            <a:ext cx="3930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2160" y="551628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610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년경 가르파레 몰라가 코시모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와 메디치가의 별들의 발견을 기념하기 위해 주조한 타원형 메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62" name="Picture 2" descr="http://walker71.com.ne.kr/BILAO003.JPG"/>
          <p:cNvPicPr/>
          <p:nvPr/>
        </p:nvPicPr>
        <p:blipFill>
          <a:blip r:embed="rId1"/>
          <a:stretch/>
        </p:blipFill>
        <p:spPr>
          <a:xfrm>
            <a:off x="515880" y="765000"/>
            <a:ext cx="81597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alker71.com.ne.kr/BILAO004.JPG"/>
          <p:cNvPicPr/>
          <p:nvPr/>
        </p:nvPicPr>
        <p:blipFill>
          <a:blip r:embed="rId1"/>
          <a:stretch/>
        </p:blipFill>
        <p:spPr>
          <a:xfrm>
            <a:off x="324000" y="476280"/>
            <a:ext cx="8332560" cy="5877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5444640"/>
            <a:ext cx="7772400" cy="7923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피에트로 다 코르토나가 피렌체에 있는 팔라쪼 피티의 주피터의 방 천장에 그린 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&lt;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중요 덕목들에 둘러싸인 주피터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&gt;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불안정한 개인 후원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티코의 성공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vs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갈릴레오의 실패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학 학회의 탄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새로운 지식의 공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승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확산을 위해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2:13:27Z</dcterms:created>
  <dc:creator>zolaist</dc:creator>
  <dc:description/>
  <dc:language>en-US</dc:language>
  <cp:lastModifiedBy>zolaist</cp:lastModifiedBy>
  <dcterms:modified xsi:type="dcterms:W3CDTF">2011-06-03T05:59:33Z</dcterms:modified>
  <cp:revision>3</cp:revision>
  <dc:subject/>
  <dc:title>과학의 제도적 기반</dc:title>
</cp:coreProperties>
</file>